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974-3714-4282-A91C-E078ED1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AD1C-AA05-4156-BD69-2D6F1E7D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E59E1-1883-45BD-83A9-7E6478DD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004BD-5D09-48A8-B88E-0154D8F2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7A988B-30CB-47D1-ABCF-2C2430D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6CD72-DAB0-4C3B-A336-32733B18D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F9FFF-4835-409B-BEA7-C49D51F3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0A912-2534-4257-AF70-3650263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8407C-8290-4A8C-A9CD-322491F5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162C-504E-4C5C-AB3C-0EFEAD11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30ED6-371D-4BA2-9CDC-FB770DB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B0C722-6EC5-4703-94A6-309BE9A4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8D8-C774-49AE-9662-447EF4E4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9E65B-1D6A-49BF-9E52-0CB9C013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4D14F-CE1C-464E-B790-16E8BC33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F7FEE-1C80-4DB5-8817-37211E21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F26F37-CA86-4C5E-9186-A1F69E04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28098-A484-485C-B99D-EE46E6D8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F2888-1BBC-4493-946B-2E07A8DF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B918-7EEB-442D-B267-23726827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6E3CC-DD95-4C41-A3BD-C6C66441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165866-32C8-4C38-95E1-28DDE35E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1F58D-E4C1-4E75-A915-D5A76EA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3902-6F8B-47ED-9803-F40A7C1B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2A9DE6-4562-4959-A4E2-B985E851B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2FF0D-A1D7-404D-86EB-1B99AA5B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AF872-B89A-4F80-AA8E-F54998EF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46B66-930A-4BE7-8115-EF3F99F5D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29A3-1461-4716-A8C9-1B4A1EE78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9B18-6CEF-4C4B-941F-4DC99C60D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B4411-7BE1-4993-869E-ED9F6B07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7CF23-3896-4B83-856B-06581174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926914-1FA6-4BD4-B148-7E8C264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B0F53-068E-4EA6-BBB9-AEF7F498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0D50-7ADC-4B6C-B922-2304C8796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732E8-F392-4EEF-9640-A1827387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6FE70-6C59-4F99-823D-3A0C002A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94861-C3B7-4166-ABD5-7B9A0DB08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654F4E-3B10-4EAF-B615-D0F920FD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103807-2BDA-49AB-BC5B-7D1DAA90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1CCC0-9F4B-4BB6-9A6C-67794729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9B859B-BC44-4D85-80DE-37D3B65B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9B321-2D28-4BF1-939A-1445BF0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9B09BD-7D61-4A4B-A57E-D0B38A90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923D1D-6C88-4C3F-BDEA-F958E58C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2BF59-43BD-4403-B59D-1F399CC8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F63CE-CFB5-4F3C-8E29-F469A2D9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19E2FE-BAAF-42E1-BF41-7D0A3FB2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751BB-62F6-4A9F-B746-B6CF0949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65DB01-B663-4393-A2B5-51357477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F92CF-F31D-4552-9016-1B1831BB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13C3EE-3038-4C19-B4B3-C022CBB1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C13BC-70A4-40B7-99E8-18738816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08972-732D-4BD0-91F0-43A20C02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4A5EC-A2C6-46ED-A420-0F4CCCB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7CA40-78EA-4DB8-81D0-19031C5D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B744-3F44-4521-A05D-9D2A283B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1A2E9F-89ED-413D-8D3D-43496102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EF25D-F353-4D32-9E06-F351FEAB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F9E52-66C6-481F-A516-E9BBB8A6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8D2FD-D9C7-47CE-93CA-013616680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FE5F0-02F3-49D0-A00B-3A63AAEB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CFA4C-B7AC-4760-BC40-819A7FC0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0D2C9-2DD6-4DBE-8062-91D9767E0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D0257-1859-48C7-ABBD-ECB6D82A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3C1CB-48E7-4065-A490-8630A9E0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6B31A5-6075-4FC2-882C-3FA2BC73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BC3A-5E45-44B4-B09A-9F95922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EC7B0-F392-44AE-8C8D-181B6C0C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D57A1-0FD0-425A-8AF6-83F8906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3AD7E-F6BF-435D-BB55-56C4ACC8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F7DF2-5D57-4BCA-9050-C1C4DF59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A4E0C-8956-487F-8B65-7D022195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58420F-3CAE-4ABD-98D8-189B812F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6E5880-F5F7-4FBD-91EB-BB43616A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1D28BD-AC2A-4A3F-9400-4B36F807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F51BC1-2451-4391-A846-1B56D040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7F4D8-6D16-42FF-9E37-913B82BD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7529-6256-430F-B9C2-62DCFEC2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A73CFD-7149-47C5-A0C8-90DEF0D3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1DBE7B-518D-43AB-9383-CA0C7393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A2CEFC-CDFF-4432-AE5E-DBFF5D1FF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88D2E-2A58-4A3A-8C2A-5801D63D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5E1E3-D06F-4D6C-9253-BEBAB674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3BB68E-CEE9-4398-8A56-9662C9FE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8B0175-2234-4E9D-95D2-19C88D55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C85439-5935-4D3A-BBD6-3F591E3F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13F049-BE86-4981-8ACD-5676801D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78EBA-1BB3-4D43-9187-1839E3784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2780-1679-4254-AE39-2B3710E8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76D25-EBBF-4F35-8DA8-F5072716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1AFEF7-1951-4AF0-8AFA-EF96DF5E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4B93D6-613D-4376-89EC-F66D0121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EE973-1D01-4B43-92A4-19979FDB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B991F5-E00A-4C49-A690-19329CD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07A28-6381-4EF9-80EC-4F6F2AD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12F687-AB2C-4044-B570-871D09B4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CF759F-F91E-4F2F-91A4-F5F52B9A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30E63F-C315-48D9-9AB6-FF7C4E8F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249265-9690-4FE8-83B0-FBF0BAA7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F699-2956-462C-9A07-3C1000F17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0F8C97-B112-4E1C-AEB4-DCA476D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860E9C-83BA-4B3C-9BCB-D665C2D2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C4929-0A5A-4396-B3DC-C2FA977D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211FC8-D8AA-4ED1-A504-6354268FA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181D8A-F91F-4D7A-A064-44B3435E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96D231-1B79-4500-B5CB-3606F23D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A361CF-00F2-413A-9519-7AD55C3D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BB96E5-E149-46B6-B72B-2E4269BC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D64B1-1D56-4D44-A35A-C5C669C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CF7A1-128D-4B3B-8296-1A50FE12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0921-420E-4994-A46B-25791575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1E54-A91D-4389-9205-C0618B7F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EF796-44D6-450F-A17A-C4C0D5C9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45B3E4-39D9-48C9-AF57-C39665A8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796F2-3702-4116-8BB3-8A251156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5EC912-73BF-4C8F-BF0C-7A83DF79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FD62D8-210B-48E8-85EB-7C7BF902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4CBDE9-9DCF-48BB-BB09-97BD32F4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63B4B-8D22-419F-B931-761FFF78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C4CC2C-AA2D-4EF0-929E-D5DD72E2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93951-1B24-4DED-B3F3-C14E48F0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AFC3F9-CB2A-40EF-B0CE-E332DB6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D60D-D65D-4FF1-9BCC-528E22E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2C755-67EC-4EEC-B582-75DE2EB7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A137DA-C2C0-456F-B563-BE0CA940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6581FB-8485-4EB3-9DFD-777D6F13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7EB45B-8E70-4AFC-857B-D4E87D84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48AA3-CA87-4EF9-BF3B-1CF6BC5A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ABB11F-439A-48A1-A2AC-B4AFF608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F3760-A8C6-498A-B5FF-87C4F4C1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1539A5-8445-474B-862B-4FBB827F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BC146B-FBB1-4391-9152-468FBB75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C4F10-BD8B-4088-9353-8654079D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5F7D0-0C10-44C9-8A88-7014FB4C8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A413F8-6346-4E23-B014-D3951F43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0044BC-905B-4200-934C-107EC011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B91464-65A1-4D61-A305-6E8C6EB0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635BC-E4A5-42E9-A03A-D7D97A27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C1D29-F310-4BA4-BA96-20B8AF49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E91B20-4976-48AC-8D22-7EF33056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8613FF-A6D9-409D-8B30-8AFCDEF7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14AF28-1C71-45FC-A497-39F050A94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989EC8-BD21-4152-AAC8-6AADB3E67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16146-9E05-41CE-942B-398B97B9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789D4-E33C-4433-8211-2B96F9E6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6DCA3A-64A0-4410-A539-B3A005BF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D58436-B2CA-4D9D-B4B0-29D4C256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CC3DC-ADDC-498C-9C31-8FB898CEC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DFAE3-198D-4965-B0D5-A81BB9D8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DFA6FC-96FA-4CB9-AA17-DB740152E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09CFF-00FA-48B3-A2D0-5C5FFA45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E59B2A-E975-4AE7-870F-28A1C49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2BCCF-9279-4943-BFE2-D31B4CC4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28DAE9-26F5-439D-9CDE-57AEBF99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D783B3-622F-4A24-BC92-CD5BFBE0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2E8B-3933-40FA-A141-52FB8663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17517A-5B52-4E50-85BC-AA8722FC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A8E6EE-CF04-4685-9348-CC9F59E7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01C012-4768-4039-AEA8-4B3EA7EB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8DE6A2-D504-4000-BCE7-02E43522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A4845B-5CAC-41C6-AF2A-BEB70F51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19B46C-932B-4457-8A80-C2575A1F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4F835-5F76-441B-B70B-77776B2B5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C15D59-F548-493D-BECE-BA05C56C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77567-072E-41D5-8693-CB486DCF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F04439-C93A-4351-8197-F9D5C73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636D1-9D88-424F-AC5F-D099111F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C35E1B-024F-44CF-98B5-4CBBB508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C036F9-6235-4CE4-9607-D4D230F8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8E3D67B-585F-4400-B7BE-81BA7FFA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0293E2-7AAE-41DC-8DBB-3BC8774A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91E4E-EEE3-4B9B-A344-7685E17E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D86007-C2E1-47A2-B229-2C6031CA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DB41FC-5565-4798-92BA-044339BD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8F515C-C177-47B0-A62A-BBEE60A7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711CA-C89B-44C9-8123-650A96E8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B11C7F-C70C-44C9-BEB4-7066280C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F4B9-E96F-4E0D-A555-685336D6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99D776-ED69-438E-8210-C94A4D65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7DC4F2-0C48-4824-8840-FA278969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FD0E4C-2E4B-4866-9E5C-FEEBA33A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24DF97-DFED-4084-ACF8-68018CDC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D5A728-6F66-42DF-B70A-B2DF8AB5C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6AD840-B90F-4348-96D4-BA60029D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1F1060-57D9-4791-A6B7-83D6499A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C65B7-F8B5-4725-8152-1597E294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7194C9-B569-4D37-93F1-893D0BDB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FE6C2-316D-4C54-BDD4-2224D856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B97AE-D2E5-4FB9-B176-17926CE1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2EB19D-AB66-4DBD-A26D-86EA824C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243D27-E746-46A0-946D-86C61915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C98329-6820-4A37-BCE2-B7F9EA46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8E7C7E-0732-4B58-A44E-F8126841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498C2D-B142-4CBD-AB21-BC775C45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8D60AE-630D-4D9E-ACEE-439F103E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0A0FBD-A4E8-4F10-B98B-FD88B6CD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85789-3194-4776-ADA9-E2A75EAA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9CED4-C126-4A8B-9C08-AF8EB78F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F45C-972C-48F8-A89D-93ECA3E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B355B-AD63-44E1-868D-7028C982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F7859-DE0C-4A24-85EA-4107D2FB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8B12-CDBB-4D1D-BAFC-752C3702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3E58-9197-4502-B251-B46F324B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C64EE-FFE3-441C-9A87-91AC3473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5A5D-1B1A-41CD-9AE1-FFE622E81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34DB-C5E0-4D92-A7FF-29E8CD68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5514F-E49A-488A-8AF4-38B049808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310D7-C186-4091-9F93-3DE6282F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730FB-B2C1-4DDA-BD61-81E563C2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3365-69EE-4894-BBAA-0DCCC00A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A3DA-3F6A-43A7-9106-9678FF50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0F901-37E4-4C27-95F0-50007B8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CC496-FBF6-48FF-A361-935C8FE6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1A9FB-21EE-4132-A6A7-40F5F2E5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6E797-F0FF-47F5-8F35-089463F2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C29D-8DB7-476D-9218-A142AECC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0CBB7-5F59-4BFE-936C-C3EAFD2A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9736-CB39-44B1-8348-74DA9D52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54788-0101-4962-80B8-797DEFA4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8AF96-6D20-4C27-9FE3-FD3CE437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0D9E-CA6E-4DF3-8868-BEAC3410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4D31B-ED3A-485B-AE12-6BC0097B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CD946-C35C-4E5C-AB32-6C2F434F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754B-DD1D-4535-A430-31BD1E96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EFF7-FDCC-4661-BE26-C53C045F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C57E0-C527-4909-885A-FA302FB4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C460F-0803-47CB-93ED-A2BBB4CB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63F95-8927-488D-8E1C-C6E67AB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5CB4D-CC67-4ABE-94A7-246BB28E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C591C-3011-41D5-B21F-C911F438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5272A-F5DC-4CC8-832F-99247DB35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7A6-72D0-4E70-A672-15DC8E530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34CFC-612A-453B-AFD4-26FE7389A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22C9-2C36-4742-9F5B-1B131E02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33DF4-D09B-4A93-AC08-A855FF64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6016D-D2D6-4B31-BE10-83A34110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92F99-43CC-49CB-9646-29EC014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8740-7097-4034-84A2-871F4538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E25B4-6D05-48A6-9D7C-8D668DC1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9751B-8586-4774-921A-272232E9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CCD5-C47F-4252-B7B0-5B5AFD6C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01FDA-0B57-412C-B770-9019D5BF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06EB-A77E-4EB9-A93C-01998553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99E18-79E0-4951-A68A-DE19A926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5439D0-F9AE-4B2B-A213-B491D4FA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FD3D5-C218-425A-BAB8-A395B7A9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210A16-DC60-4F49-9888-6727AFBA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F8DE1C-C35F-4F8A-B1DD-439E66A18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5B2C3-F236-4360-A0F2-2F8D7FED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0AC74-87E3-4E10-A1CF-848CC92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84AC3-29A2-4BFB-9AE0-0817B1EB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8C1F7-D35A-41FB-BA0E-5DDCD96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403D5-AE71-4981-A0D7-FC182A32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BDC3-89E0-4A64-9BAD-CF390001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A6140-B0B7-4F2A-889D-EE4C2EB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9CD2B-4C02-41E6-AA81-3B18A3F7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51D47-2E63-4AFC-AE65-955B6925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21D9C-D5B6-4912-B5EC-E3E7EA7F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85D0B-8033-4852-AB04-697223F44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3F51C-7E5C-440B-806B-BFCB6C637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B8FDC-54D6-4390-A0D3-066AEAD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D1151-5CD8-4583-A7E4-31F46D0E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6EC75-B09F-4D97-A6B9-38F90F97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33CC0-C7EA-48DD-AEE0-3955543C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0D2-ECE2-4F47-8D1B-F867C21C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2FC83-924A-4890-A0DE-B5CC3F0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73B3-4C74-4271-B392-4BE3068F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592AD-39F4-4056-A73F-1200772B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6A9492-FDB2-41E5-A1EE-6E393A13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CE813-1AE5-4A01-B923-D5663FB2E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38447-EC31-4D5D-8FD1-B2795D8A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AB303-4DAB-46FF-A542-A3E259AC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9F566-3798-490A-A39C-AC83A76E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1AFBF-7DB7-462B-A398-64B03BDB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EADCD-E943-47CA-8D94-814D5663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D1E2-E742-4DA2-AEEB-3A6662C95E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3517-736E-409B-B047-6E73DC5EBA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6B5C5-6987-47C1-9506-9F0CCBF1E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60DB-EC3A-4A74-80E2-C2780C05A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3A00-554E-48C7-813B-748FC4E998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FFC1-F9AE-4722-BD29-7A391B7E9C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E222-905A-4829-B939-18984F253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E0A-B42E-403E-90FA-4091C7E1F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BFD2-BE3F-43AD-B9EC-88EC01926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A8D1-58AA-4B40-9C84-CB7B6EF740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CDDA-D658-4EB0-84C1-679799EAB5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AF857-2540-4022-8347-99CD3E44AD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D5C83-19BA-49D0-8032-DC91FCC1F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B29A-EAAF-4E06-9DF6-DB34AAD8CA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8F4-1796-4F21-8A93-85A0C0C35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1703-9120-4D03-8597-9336F5085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EC0E-0EC8-45CB-A5EB-63EA508C7B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8ECC-64BD-4179-9203-CACB7D96A5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9A90-2B21-4672-ADBC-996C311608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772BD-821C-4DC8-87C7-5C6CE0ED6A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7A0-1424-4F6B-A06F-91D4A2E22C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C1E5-460C-4717-B433-0D73673F1C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CE06-0AB4-480F-932C-86F747CB67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4A30-DAC9-4FE6-9F42-DE545F4141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00A5-598A-4ED0-9776-9CBADF3F07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D7C6-62B5-49CA-A05D-E7208E91C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A07B-AA3D-431F-975B-86E4DFA788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1986-EA21-47EE-BD5B-8B944761B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0F33-D409-483F-93F9-222021AC9B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93AF-6F48-48F9-BB0B-3EB4C5B388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3971-41C5-41D8-8CA4-8BC938BB8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1049-D61D-4F44-8B1D-AB4BC951D8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C81E-5E26-4968-A18C-0E2B8C0FE0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B221-EE0C-4987-BE0B-740B363346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CE02-F9C4-4A76-8160-26CEF4EE3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A23B-1D8B-4AC8-AAC6-AEFAA4256D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4030-3B0F-47EB-9585-091856DF4F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9AFC-320E-4671-8B3F-FE9690FE5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F2F3-4F80-4522-BADF-C674BDE316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00BC-0296-4D50-A931-32BBD6E1F6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3915-0D14-49E0-AC0F-6BCD09C8E8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23AE-B1CE-4BEF-B575-FA7BE9681A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533520" y="2900520"/>
            <a:ext cx="8076960" cy="105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114480" y="219240"/>
            <a:ext cx="8915400" cy="6419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826920" y="387504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755640" y="4552920"/>
            <a:ext cx="439272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37960" y="880920"/>
            <a:ext cx="8668080" cy="54673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900000" y="5129280"/>
            <a:ext cx="446400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755640" y="580536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182880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3924360" y="3313080"/>
            <a:ext cx="934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276120" y="1671480"/>
            <a:ext cx="8591760" cy="35150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9054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1042920" y="3962520"/>
            <a:ext cx="5905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290520" y="800280"/>
            <a:ext cx="8562960" cy="525780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71640" y="391788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581360"/>
            <a:ext cx="403236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900000" y="5272200"/>
            <a:ext cx="691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90400" y="733320"/>
            <a:ext cx="7963200" cy="595332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1476360" y="485460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1476360" y="5516640"/>
            <a:ext cx="439092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1403280" y="62229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533520" y="165240"/>
            <a:ext cx="8264520" cy="666900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2"/>
          <a:stretch/>
        </p:blipFill>
        <p:spPr>
          <a:xfrm>
            <a:off x="1547640" y="373068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3"/>
          <a:stretch/>
        </p:blipFill>
        <p:spPr>
          <a:xfrm>
            <a:off x="1692360" y="436572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4"/>
          <a:stretch/>
        </p:blipFill>
        <p:spPr>
          <a:xfrm>
            <a:off x="1619280" y="5013360"/>
            <a:ext cx="49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5"/>
          <a:stretch/>
        </p:blipFill>
        <p:spPr>
          <a:xfrm>
            <a:off x="1619280" y="5689440"/>
            <a:ext cx="49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6"/>
          <a:stretch/>
        </p:blipFill>
        <p:spPr>
          <a:xfrm>
            <a:off x="1619280" y="6381720"/>
            <a:ext cx="676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461880" y="2252520"/>
            <a:ext cx="8220240" cy="2352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116000" y="3701880"/>
            <a:ext cx="62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图片 1" descr=""/>
          <p:cNvPicPr/>
          <p:nvPr/>
        </p:nvPicPr>
        <p:blipFill>
          <a:blip r:embed="rId1"/>
          <a:stretch/>
        </p:blipFill>
        <p:spPr>
          <a:xfrm>
            <a:off x="176040" y="876240"/>
            <a:ext cx="8791920" cy="51055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2"/>
          <a:stretch/>
        </p:blipFill>
        <p:spPr>
          <a:xfrm>
            <a:off x="1116000" y="321300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3"/>
          <a:stretch/>
        </p:blipFill>
        <p:spPr>
          <a:xfrm>
            <a:off x="971640" y="386064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68000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5"/>
          <a:stretch/>
        </p:blipFill>
        <p:spPr>
          <a:xfrm>
            <a:off x="900000" y="5243400"/>
            <a:ext cx="61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3:2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